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824E3-872D-40E7-A4A6-35C6D3592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6B643-3CBD-4FBF-8C43-B5E91E1D6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4F467-7CBF-4587-A085-A7A3E3D59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627D1-284C-4ED4-97D8-1886D3EA5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0D679-052A-44B2-992A-D6EC0993C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AE46E-09D2-4A79-9ADA-D160CACF6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2967F-96F2-4A7C-835A-200A9DD6F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C4BB2-37B8-4744-97B8-1673FC87E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7E2E8-20C9-4CA7-8AD9-DEF8B0EC0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20D56-110C-4DC0-B948-F6404C425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CAE71-11C4-4EF7-97EC-03B02A340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E039C-EB6E-4F95-9F6E-EEDA7C43C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35177-F3DE-49C4-B2A4-7174FE4C9249}" type="slidenum">
              <a:rPr b="0" lang="zh-TW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DiagShell Command</a:t>
            </a:r>
            <a:br>
              <a:rPr sz="4400"/>
            </a:b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Coding SO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t1x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See diag_command.x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and coding ut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Arial"/>
              </a:rPr>
              <a:t>portli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IS_PORT_IN_PORT_MARSK(port, port_mas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DIAG_UTIL_EXTRACT_</a:t>
            </a:r>
            <a:r>
              <a:rPr b="0" lang="zh-TW" sz="2400" spc="-1" strike="noStrike">
                <a:solidFill>
                  <a:srgbClr val="333399"/>
                </a:solidFill>
                <a:latin typeface="Arial"/>
              </a:rPr>
              <a:t>PORT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LIST(portlist, portlist_p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DIAG_UTIL_EXTRACT_</a:t>
            </a:r>
            <a:r>
              <a:rPr b="0" lang="zh-TW" sz="2400" spc="-1" strike="noStrike">
                <a:solidFill>
                  <a:srgbClr val="333399"/>
                </a:solidFill>
                <a:latin typeface="Arial"/>
              </a:rPr>
              <a:t>DSL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LIST(portlist, portlist_p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DIAG_UTIL_EXTRACT_</a:t>
            </a:r>
            <a:r>
              <a:rPr b="0" lang="zh-TW" sz="2400" spc="-1" strike="noStrike">
                <a:solidFill>
                  <a:srgbClr val="333399"/>
                </a:solidFill>
                <a:latin typeface="Arial"/>
              </a:rPr>
              <a:t>EXT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LIST(portlist, portlist_p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DIAG_UTIL_PORTMASK_SCAN(portlist, por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and coding ut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Token ut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TOKEN_STR(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TOKEN_CHAR(m,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TOKEN_NU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and coding ut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int32 diag_util_str2LPortMask(uint8 *str, rtk_portmask_t *mask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int32 diag_util_str2ul(uint32 *ul, const char *str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333399"/>
                </a:solidFill>
                <a:latin typeface="Arial"/>
              </a:rPr>
              <a:t>/* convert MAC address &lt;--&gt; string *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int32 diag_util_mac2str (uint8 *str, const uint8 *ma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int32 diag_util_str2mac(uint8 *mac, uint8 *str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333399"/>
                </a:solidFill>
                <a:latin typeface="Arial"/>
              </a:rPr>
              <a:t>/* convert IP address &lt;--&gt; string *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int32 diag_util_ip2str(uint8 *str, uint32 ip);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int32 diag_util_str2ip(uint32 *ip, uint8 *str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and coding ut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33399"/>
                </a:solidFill>
                <a:latin typeface="Arial"/>
              </a:rPr>
              <a:t>/* convert IPv6 address &lt;--&gt; string */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int32 diag_util_ipv62str(uint8 *str, const uint8 *ipv6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int32 diag_util_str2ipv6(uint8 *ipv6, const uint8 *str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int32 diag_util_isBcastMacAddr(uint8 *mac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int32 diag_util_isMcastMacAddr(uint8 *mac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void diag_util_mprintf(char *fmt, ...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Get Apollo source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How to bui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Implement your CL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CLI implement guide(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經驗談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Dot1x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t Apollo source co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http://cadinfo.realtek.com.tw/svn/CN/Switch/trunk/dumb/apol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to bui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Please refer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dump\apollo\ReadMe\build_code_sop.t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2666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04920" y="3505320"/>
            <a:ext cx="82296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 your CL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Please refer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dump\apollo\ReadMe\build_code_sop.t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如何增加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CLI comm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apollo\ReadMe\diag shell\</a:t>
            </a:r>
            <a:r>
              <a:rPr b="0" lang="zh-TW" sz="2400" spc="-1" strike="noStrike">
                <a:solidFill>
                  <a:srgbClr val="ff0000"/>
                </a:solidFill>
                <a:latin typeface="Arial"/>
              </a:rPr>
              <a:t>RTK_MS_SDK_DiagShell_CodingGuide_2.0.0(Chinese).do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 implement gu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ollo_diagshell_rules.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美化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Edi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進階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--&gt;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組態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--&gt;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語法醒目提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選擇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WORDLIST </a:t>
            </a:r>
            <a:r>
              <a:rPr b="0" lang="zh-TW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將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wordfile.txt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套用到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UtraEd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檢視</a:t>
            </a:r>
            <a:r>
              <a:rPr b="0" lang="zh-TW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檢視為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醒目提示檔型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zh-TW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選擇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diagshel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ing code gen to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自動產生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diag_xxx.c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內的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. copy xxx.cli to gen_file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2. excu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./diag_gen.py -fd gen_file/ -f xxx.cl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.you can get "diag.c" in gen_file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ps – save building ti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make diag   --&gt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只改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command (xxx.cli 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與 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diag_xxx.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沒有修改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SDK(raw driver 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與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RTK API) </a:t>
            </a:r>
            <a:br>
              <a:rPr sz="2800"/>
            </a:b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只要產生新的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diag.exe 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不需要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make all</a:t>
            </a:r>
            <a:br>
              <a:rPr sz="2800"/>
            </a:b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                             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測試單一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modu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make sheel_tree 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不要將不驗的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command make 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進來                     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ppa</cp:lastModifiedBy>
  <dcterms:modified xsi:type="dcterms:W3CDTF">2011-07-08T03:10:15Z</dcterms:modified>
  <cp:revision>2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